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EDC3-4B72-476A-8AEC-86AC12F9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E925-7303-4D34-BA75-AC3A0D5A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4093-6B87-42F8-9C92-EEFC74B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8008-31E3-492A-BB9B-02035BCC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849D-B29C-4AB0-A615-847B4FEC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3E5C-84F3-46B2-8DBC-A8D5CD45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6867-7C1D-4A21-9782-B856FE3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34A-4199-40D0-8DB2-352A621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63C8-2397-455C-AB2C-0DD69A5B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14440" y="2133360"/>
            <a:ext cx="582912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365-6F59-4226-8094-751F621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2B5B-9592-44BF-91E3-41EFB1FE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D81F-76D4-45D2-B990-4B2537A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BD3-915F-4151-A302-3A3D4C4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159F-2AEB-4EEC-BCB0-52CD6CD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B7C8-4122-45E8-AFFD-7CCB3B8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B0DC-18E2-491F-AB03-E06EC334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32F-6379-4FE0-B4DB-AF643818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B795-208E-4632-B20C-E5AE88D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157C-E050-46B7-8B77-8EC8A58D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9A84-864F-4D5C-8FF9-58C0DA6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14440" y="2133360"/>
            <a:ext cx="582912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3908-6495-4752-83D4-EEFB6DA0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3CFF-013B-486B-899F-942800D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C65B-455C-4EE4-8CEA-031DADA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2660-88C5-4B0A-A4B0-5524411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1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A5C-A8EE-41B9-931F-E4FDAB707B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64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3A5C-7294-40BC-8000-1908971EB8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¡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ienvenidos al Cinema Esp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rial"/>
              </a:rPr>
              <a:t>ña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19810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</a:rPr>
              <a:t>cin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gnifico abri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pronto con ofertas, comida,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pelicula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y buena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Gran Apertu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: El 23 de diecemb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: Un cine magnifico que tiene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butac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odas y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pantall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nd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ida: Vendemos palomitas y dulces. ¡Los resfrescos son limonada, agua, soda, y mucho ma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Bolet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¡Para la gran apertura los boletos son DOS POR UNO! La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fi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ante de la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taquil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es larga porque hay mucho emplead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liculas: La pelicula de gran entrada es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Laberinto del Faun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n version original con el famoso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act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an Jorge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sesion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a las once de media y a las dos y med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: Hay una estacion de metro y autobus cerca del cin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Se habla español aquí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681000">
            <a:off x="456840" y="7848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sala del 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6553080"/>
            <a:ext cx="1914480" cy="14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64400">
            <a:off x="372600" y="5682960"/>
            <a:ext cx="3268800" cy="2179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8229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s por un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895480" y="632448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71800" y="8458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pelic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6:11:57Z</dcterms:created>
  <dc:creator>brouwerstif</dc:creator>
  <dc:description/>
  <dc:language>en-US</dc:language>
  <cp:lastModifiedBy>brouwerstif</cp:lastModifiedBy>
  <dcterms:modified xsi:type="dcterms:W3CDTF">2011-12-23T15:16:02Z</dcterms:modified>
  <cp:revision>18</cp:revision>
  <dc:subject/>
  <dc:title>Bienvenidos al Cine Mexicano</dc:title>
</cp:coreProperties>
</file>